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D85-E38B-4ACA-971E-032B5077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827-2501-428D-8A79-DBEE1188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CD2-4DAD-4D5B-9B53-097D1FCB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3C7-B330-427A-8510-2D780437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96A-4981-4F1A-9D4E-EA2CF26E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D9C-F147-46FD-BFAF-BC9E70B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79E-4B75-4D68-A84F-BB122C5D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1F9-0F17-41EA-BA89-6C8EB1E5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794-3732-443D-8D2E-45837315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3AB-C762-4099-894C-6CE5B62F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883-7D9A-4E8B-9DED-5D90096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990-55DD-4F18-B868-DFCC0A6B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BEC-6AA3-46CD-84F5-9E0DAD66B1D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ve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xpress the principal and independent id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Dependent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xpress additional information about the main idea (when or where it happened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bordinating conjunc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 the time relationship btw the dependent time clause and the main cla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pendent time clause can come before or after the main clause. But we use a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om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the time clause comes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main clau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ordinating conjunction—In 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65) combine each pair of sentences into one complex sentence. Use the subordinating conjunctions in parentheses to clarify time relationship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動作按鈕: 起點 3"/>
          <p:cNvSpPr/>
          <p:nvPr/>
        </p:nvSpPr>
        <p:spPr>
          <a:xfrm>
            <a:off x="8001000" y="607212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Describe Events in Correct Time Period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in a narrative essay, the tense used sticks to the past, including th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imple past ten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ast continu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ast continu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was/were + V-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alk about activities that were in progress at a specific time in the pas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scribe background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 time cl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7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 time clauses can be used to describe the relationship btw two or more ev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taneous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up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s in sequ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71) Identify the time relationship btw two clauses in each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動作按鈕: 起點 3"/>
          <p:cNvSpPr/>
          <p:nvPr/>
        </p:nvSpPr>
        <p:spPr>
          <a:xfrm>
            <a:off x="8001000" y="607212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work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vise assignment 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work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iscuss the writing mechanics of Essay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arrative essay is a piece of writing that recreates an experienc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rough 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t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o engages the reader’s inter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ntion-getting h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is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o give details about the main event/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 in time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 of descri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onclu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o describe the outcom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of th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event showed or tau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62) A Scary Secr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is stat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s? Descrip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poi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rrange the events in time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ing sequence in Narrative Es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the events in correct time peri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past time clauses in Narrative Es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dd details to ess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ing detail questions about an out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howing Sequence in Narrative Essay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ors (time adver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ordinating conjunction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adver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Afterw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eventu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ater 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sudden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…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connectors usually appear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t the beginning of a sente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a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llowed by a com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xcept for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62) Circle the time adverb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ordinating conj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70c0"/>
                </a:solidFill>
                <a:latin typeface="Calibri"/>
              </a:rPr>
              <a:t>As soon a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70c0"/>
                </a:solidFill>
                <a:latin typeface="Calibri"/>
              </a:rPr>
              <a:t>befo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70c0"/>
                </a:solidFill>
                <a:latin typeface="Calibri"/>
              </a:rPr>
              <a:t>aft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70c0"/>
                </a:solidFill>
                <a:latin typeface="Calibri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etc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subordinating conjunction joins a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subordinate claus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a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main claus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subordinate clause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usually introduced by a subordinating element such as a subordinating conjunction or relative pronou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does not express a complete thought, so it does not stand alone. It must always be attached to a main claus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that completes the mean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are sometimes called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dependent clause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because they "depend" on a main clause to give them mean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ordinating conjunction—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0040" y="1785960"/>
          <a:ext cx="8229600" cy="3475080"/>
        </p:xfrm>
        <a:graphic>
          <a:graphicData uri="http://schemas.openxmlformats.org/drawingml/2006/table">
            <a:tbl>
              <a:tblPr/>
              <a:tblGrid>
                <a:gridCol w="2685960"/>
                <a:gridCol w="5543640"/>
              </a:tblGrid>
              <a:tr h="45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Tran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02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                 immediately                 nev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                 later, earlier                alway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                soon                       whenev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ce                  then                          at leng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while       sometimes       subs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meantime         during       afterwards now, until now            next              follow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ultaneously            so far            this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60" name="文字方塊 5"/>
          <p:cNvSpPr/>
          <p:nvPr/>
        </p:nvSpPr>
        <p:spPr>
          <a:xfrm>
            <a:off x="2286000" y="578628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wisc.edu/writing/Handbook/Transitions.html#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4:54:58Z</dcterms:created>
  <dc:creator>Windows 使用者</dc:creator>
  <dc:description/>
  <dc:language>en-US</dc:language>
  <cp:lastModifiedBy>Windows 使用者</cp:lastModifiedBy>
  <dcterms:modified xsi:type="dcterms:W3CDTF">2009-04-11T15:58:23Z</dcterms:modified>
  <cp:revision>24</cp:revision>
  <dc:subject/>
  <dc:title>投影片 1</dc:title>
</cp:coreProperties>
</file>